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81270"/>
        <c:axId val="55954533"/>
      </c:barChart>
      <c:catAx>
        <c:axId val="22081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54533"/>
        <c:crosses val="autoZero"/>
        <c:auto val="1"/>
        <c:lblAlgn val="ctr"/>
        <c:lblOffset val="100"/>
        <c:noMultiLvlLbl val="0"/>
      </c:catAx>
      <c:valAx>
        <c:axId val="55954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81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975-712E-4161-808C-22ED4708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1A3-3572-404B-A1A8-6C18BB5F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6E3-991A-4CB9-A579-0E5FE95F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DA3-6B74-46C3-B80F-AF31D7B0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DDC-7832-4983-A21A-6EE77A70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792-5C8F-4126-AED8-7EE3906A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DF3-ED9A-4428-83E1-91FC210A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1D1-6AFC-4502-892D-F44F88C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F35-0677-4C8B-88BE-510BE6D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461-E331-480A-A343-5BFC6BB4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12C-C29D-4D57-B8D5-55F0C33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5A0-5083-416D-ADDD-026429A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05E40-CC21-4B27-8D33-F469645A7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