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353760"/>
        <c:axId val="22887891"/>
      </c:barChart>
      <c:catAx>
        <c:axId val="703537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887891"/>
        <c:crosses val="autoZero"/>
        <c:auto val="1"/>
        <c:lblAlgn val="ctr"/>
        <c:lblOffset val="100"/>
        <c:noMultiLvlLbl val="0"/>
      </c:catAx>
      <c:valAx>
        <c:axId val="228878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3537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2695-E110-4A92-82AB-B37F20EF1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31C3-D83C-41DC-B136-4EACE42E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927C-94B9-40A8-8B01-8E902ECD7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30FA-2D31-456E-92C6-2E21B54D0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DAC0-BDEE-42C5-8B68-F9CE6860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80D8-FADC-4873-B712-99F58885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10F9-4E86-41DF-B4F2-945FD251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2C61-2C36-41C0-9828-DEDDFFAF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99B3-88B5-4912-B0BD-21AD990F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905C-F981-41E7-A885-3C8BC05F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D9DE-D99C-4BCB-9D4C-CCED991F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35D9-4FB8-4308-B46E-944360CA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BDB734-D67C-4ED6-8A5C-A4C303FB76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