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02282"/>
        <c:axId val="84008996"/>
      </c:barChart>
      <c:catAx>
        <c:axId val="100022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08996"/>
        <c:crosses val="autoZero"/>
        <c:auto val="1"/>
        <c:lblAlgn val="ctr"/>
        <c:lblOffset val="100"/>
        <c:noMultiLvlLbl val="0"/>
      </c:catAx>
      <c:valAx>
        <c:axId val="84008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022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1FD-36AF-4484-A22D-04E79C0C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005-FF4F-4650-9560-8FE4ECB8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D35-6988-4BC5-ADAF-F57B7F13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21F-087F-4504-BA42-ADE982F6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28E-BDD3-42DD-ABA3-06C1BEF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E9CC-5437-49AE-B88C-A084C0A2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01D-C4F7-4F2E-9929-6EE15F28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E22-5933-4771-BBC8-2D2B5E7D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1E7-E1E7-4F5F-91E4-D67E9C8F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B1B-FD60-4EB4-ABFF-020F885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8B0-F82E-4EF0-A8E3-C76AE8B0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A16-6451-4619-B6F1-DE88FFD0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F5F94-C7D3-4AD4-ADE4-8999CF4726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